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490-605E-4FBC-8ED8-DCC27EDB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099-BBC0-4F26-BA72-2F9A9573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E9D-DCCE-4119-AC34-D2B90CD4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908-BF7C-477B-8A21-2194D926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7A3-E8A0-42F5-AF6A-24FE51A0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F84-E1C7-49BE-8713-F6C65884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18D-9F13-4C7E-ABEC-529D5EE3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BDF6-44C2-4385-94BA-39A0B313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89A4-BE57-4156-BCE3-92E5FE31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A60-9A17-42E3-9411-3E63D0F0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E47-2CB2-47F0-8A5A-96693D51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B35-8510-4839-8CBF-CC71FAA1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D122-353E-4924-9115-91FF7B7334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182880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尽力而为还不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49440" y="6237360"/>
            <a:ext cx="24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比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盖茨的客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676520"/>
            <a:ext cx="86868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成就伟大人生的最重要法则是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人生将依照你自己所想象所描绘的样子而实现。”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6858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拳王阿里在一场争夺重量级冠军的决赛中，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个回合被对手打得很惨，他的眼角裂了，鼻孔流出了鲜血。他的教练在休息时问他：“要不要放弃比赛？”阿里说：“这样的问题你应该在拳赛结束后再问我。”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      在短暂的休息中，他反复想象自己打倒对手时的情景，想像千万人为自己欢呼的情景，口中念念有词，不断告诉自己：“我最强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8380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a93cb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第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回合，阿里又恢复了拳王的气势，把对手打得落花流水，最后，他一记重勾拳击倒了对手而获胜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     想象有强大的力量，许多成大事的人都是先从自己描绘具体行动形象开始，然后为实现愿望竭尽全力去工作。他们都是平凡人，但他们能焕发自己的潜能，所以成就了伟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68580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a93cb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不断想象自己成功的场景，想象得越具体越好，这是焕发自己潜能的魔法。成就伟大人生的最重要法则是：“人生将依照你自己所想象所描绘的样子而实现。”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当然，光靠想象是不够的，只有愿望没有行动永远达不到目的。虽然行动未必能保证结果，但你必须知道：没有行动就绝对没有成功的希望。但同样的行动，有潜意识与没有潜意识，其结果是不一样的</a:t>
            </a:r>
            <a:r>
              <a:rPr b="1" lang="zh-CN" sz="3600" spc="-1" strike="noStrike">
                <a:solidFill>
                  <a:srgbClr val="5a93cb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315200" y="685800"/>
            <a:ext cx="1143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乔丹投致胜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1447920"/>
            <a:ext cx="85345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任何恐惧都是幻觉。你以为有东西挡着你的道，其实只是一个可以让你竭尽全力去获得成功的机会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2228760"/>
            <a:ext cx="9144000" cy="468360"/>
            <a:chOff x="0" y="2228760"/>
            <a:chExt cx="9144000" cy="468360"/>
          </a:xfrm>
        </p:grpSpPr>
        <p:sp>
          <p:nvSpPr>
            <p:cNvPr id="63" name=""/>
            <p:cNvSpPr/>
            <p:nvPr/>
          </p:nvSpPr>
          <p:spPr>
            <a:xfrm>
              <a:off x="0" y="2228760"/>
              <a:ext cx="91440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0" y="2228760"/>
              <a:ext cx="6400800" cy="11160"/>
              <a:chOff x="0" y="2228760"/>
              <a:chExt cx="6400800" cy="11160"/>
            </a:xfrm>
          </p:grpSpPr>
          <p:sp>
            <p:nvSpPr>
              <p:cNvPr id="65" name=""/>
              <p:cNvSpPr/>
              <p:nvPr/>
            </p:nvSpPr>
            <p:spPr>
              <a:xfrm>
                <a:off x="0" y="2228760"/>
                <a:ext cx="6400800" cy="1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28760"/>
                <a:ext cx="64008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"/>
          <p:cNvSpPr/>
          <p:nvPr/>
        </p:nvSpPr>
        <p:spPr>
          <a:xfrm>
            <a:off x="533520" y="990720"/>
            <a:ext cx="795492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998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NBA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赛后季总决赛， 公牛队与犹他爵士队的比赛可谓动人心魄，还剩最后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5.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秒，公牛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85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86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落后，这时乔丹抢断球获得成功，这是决定命运的时刻了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!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只能成功，不能失败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!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乔丹稳稳地把球朝篮框送出去，中了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!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公牛队胜了，第六次摘取了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NBA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总冠军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380880"/>
            <a:ext cx="853416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看乔丹打蓝球最精彩之处是：他总在最后几秒钟甚至在响哨前一刹那，投出一个“致胜球”，使他的队反败为胜，在他的蓝球生涯里他总共投出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5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个“致胜球”。这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5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个致胜球不但决定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5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场胜利，还让乔丹成为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世纪最伟大的蓝球运动员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      乔丹说：“每当别人都知道我会拿到并投进终场前的‘致胜球’时，我总是更加信心百倍。我不能让球迷，让球队，让自己失望，每一次挑战我总能创造一次奇迹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990720"/>
            <a:ext cx="7924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无论我陷入何种困境，我都会想，自己一定能成功。而不去想，如果失败了会怎样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    “有些人一想到可能会有一个糟糕的结局，便会恐惧得浑身发冷。我认为，如果我想在一生中有所成就，就必须积极进取，我必须主动出击。我相信，畏畏缩缩是成不了大器的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320" y="108576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“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对于某些人来说，恐惧是一道障碍，可对我而言，它只是一种幻觉。任何恐惧都是幻觉。你以为有东西挡着你的道，其实只是一个可以让你竭尽全力去获得成功的机会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     “如果我发挥出自己最大的能力，依然不能尽如人意，那么，我也用不着在回首往事时说，当时我怕得连试都不敢试。努力尝试并没有错，也没有什么可以害怕的。失败总是会激励 我下一次付出更多的努力。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9051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在美国西雅图的一所著名教堂里，有一位德高望重的牧师 ——戴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泰勒。有一天，他向教会学校一个班的学生讲了下面的故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86200" y="2629080"/>
            <a:ext cx="1371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876240"/>
            <a:ext cx="8686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有一年冬天，猎人带着猎狗去打猎。猎人一枪击中了一只兔子的后腿，受伤的兔子拼命地逃生，猎狗在其后穷追不舍。可是追了一阵子，兔子跑的越来越远了。猎狗知道追不上了，只好悻悻地回到猎人身边。猎人气急败坏地说：“你真没用，连一只受伤的兔子都追不到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猎狗听了很不服气地辩解道：“我尽力而为了呀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380960"/>
            <a:ext cx="86868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兔子带着伤成功地逃生回家后，弟兄们都围过来惊讶地问它：“那只猎狗很凶呀，你又带了伤，是怎么甩掉它的呢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兔子说：“它是尽力而为，我是竭尽全力呀！它没追上我，最多挨一顿骂，而我若不竭尽全力地跑，可就没命了呀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0492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泰勒牧师讲完故事之后，又向全班郑重其事地承诺：谁要是能背出《圣经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马泰福音》中第五章到第七章的全部内容，他就邀请谁到西雅图的“太空针”高塔餐厅参加免费聚餐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《圣经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马泰福音》中第五章到第七章的全部内容有几万字，而且不压韵，要背诵其全文无疑有相当大的难度。尽管参加免费聚餐会是许多学生梦寐以求的事情，但是几乎所有的人都浅尝辄止，望而却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04920"/>
            <a:ext cx="8686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几天后，班上一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的男孩，胸有成竹地站在泰勒牧师面前，从头到尾按要求背了下来，竟然一字不落，没出一点差错，到了最后，简直成了声情并茂的朗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泰勒牧师比别人更清楚，就是成年的信徒中，能背诵这些篇幅的人也是罕见的，何况一个孩子。泰勒牧师在赞叹男孩惊人的记忆力的同时，不禁好奇地问：“你为什么能背下这么长的文字呢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男孩不暇思索地回答道：“我竭尽全力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6094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年后，那个男孩成了世界著名软件公司的老板。他就是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266688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f327"/>
                </a:solidFill>
                <a:latin typeface="Times New Roman"/>
              </a:rPr>
              <a:t>比尔</a:t>
            </a:r>
            <a:r>
              <a:rPr b="1" lang="zh-CN" sz="4400" spc="-1" strike="noStrike">
                <a:solidFill>
                  <a:srgbClr val="e9f327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e9f327"/>
                </a:solidFill>
                <a:latin typeface="Times New Roman"/>
              </a:rPr>
              <a:t>盖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65840" y="914400"/>
            <a:ext cx="4178160" cy="594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68580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泰勒牧师讲的故事和比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盖茨的成功背诵对人很有启示：每个人都有极大的潜能。正如心理学家所指出的，一般人的潜能只开发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%-8%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左右，像爱因斯坦那样伟大的科学家，也只开发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2%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左右。一个人如果开发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0%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潜能，他可以背诵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本教科书，可以学完十几所大学的课程，还可以掌握二十来种不同国家的语言。谁要想创造奇迹，仅仅做到尽力还不够，必须竭尽全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153280" cy="7234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077320" y="838080"/>
            <a:ext cx="1066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阿里的想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44:53Z</dcterms:modified>
  <cp:revision>11</cp:revision>
  <dc:subject>主题班会课件(分28大类): http://shop62905894.taobao.com</dc:subject>
  <dc:title>主题班会课件(分28大类): http://shop62905894.taobao.com</dc:title>
</cp:coreProperties>
</file>